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6E20-BB12-42D1-93A2-C95FB4CD8D6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4F6F-2EFF-4489-B7C4-1A8187D0E2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D423-2F2B-4595-BC5E-DB43AAE6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9B2C-333D-4B97-A96E-5CFD0A75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0BB0-B033-455F-B1C7-5B2C1C99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C823-FC29-4450-9B0F-67916005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57F6-A501-4F11-9EFD-E5205C8F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5A58-7A2C-43DA-930C-D499C1A6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F312-475C-450B-8647-2B7B8862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1443-924A-4EF1-A631-CBEF0E1C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3BF-16E1-4752-8798-7CC708CD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4864-57EC-40C7-A65C-F674AD0D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7D16-4FF8-43E8-84FB-CDA1EAA5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B61A-6DF9-4454-9AE6-B82C8665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0E36-FCD6-403D-979C-567E5F8287C9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Fire in the Forest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iago Garcia de Senna Carnei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â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unster,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Basic Cellular Automaton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Grid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113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Oval 3"/>
          <p:cNvSpPr/>
          <p:nvPr/>
        </p:nvSpPr>
        <p:spPr>
          <a:xfrm>
            <a:off x="539640" y="4437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3635280" y="3213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6588000" y="4437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B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6"/>
          <p:cNvCxnSpPr>
            <a:stCxn id="166" idx="7"/>
            <a:endCxn id="167" idx="2"/>
          </p:cNvCxnSpPr>
          <p:nvPr/>
        </p:nvCxnSpPr>
        <p:spPr>
          <a:xfrm flipV="1">
            <a:off x="2382480" y="3715920"/>
            <a:ext cx="1253160" cy="86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170" name="Straight Arrow Connector 8"/>
          <p:cNvCxnSpPr>
            <a:stCxn id="167" idx="6"/>
            <a:endCxn id="168" idx="1"/>
          </p:cNvCxnSpPr>
          <p:nvPr/>
        </p:nvCxnSpPr>
        <p:spPr>
          <a:xfrm>
            <a:off x="5796000" y="3716280"/>
            <a:ext cx="1108800" cy="86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09120" y="1988640"/>
            <a:ext cx="8534520" cy="42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x 50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states: forest, burning, and bu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lly all cells are fo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n Neumann neighborhood (4 neighb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orest cell burns if a neighbor is bu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urning cell becomes burned after one time st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random initial burning c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ulate for 90 time s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Oval 4"/>
          <p:cNvSpPr/>
          <p:nvPr/>
        </p:nvSpPr>
        <p:spPr>
          <a:xfrm>
            <a:off x="3635280" y="3213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6588000" y="4437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B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Arrow Connector 8"/>
          <p:cNvCxnSpPr>
            <a:stCxn id="175" idx="6"/>
            <a:endCxn id="176" idx="1"/>
          </p:cNvCxnSpPr>
          <p:nvPr/>
        </p:nvCxnSpPr>
        <p:spPr>
          <a:xfrm>
            <a:off x="5796000" y="3716280"/>
            <a:ext cx="1108800" cy="86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178" name="Oval 9"/>
          <p:cNvSpPr/>
          <p:nvPr/>
        </p:nvSpPr>
        <p:spPr>
          <a:xfrm>
            <a:off x="3059280" y="5661000"/>
            <a:ext cx="216036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Emp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539640" y="4437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Straight Arrow Connector 11"/>
          <p:cNvCxnSpPr>
            <a:stCxn id="179" idx="7"/>
          </p:cNvCxnSpPr>
          <p:nvPr/>
        </p:nvCxnSpPr>
        <p:spPr>
          <a:xfrm flipV="1">
            <a:off x="2382480" y="3715920"/>
            <a:ext cx="1253160" cy="86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9120" y="1988640"/>
            <a:ext cx="8534520" cy="42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x 50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s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mpty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est, burning, and bu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itial state: select randomly between empty/fo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n Neumann neighborhood (4 neighb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orest cell becomes burning if a neighbor is bu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urning cell becomes burned after one time st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random initial burning c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ulate for 90 time s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tiago</cp:lastModifiedBy>
  <cp:lastPrinted>2012-10-26T17:22:49Z</cp:lastPrinted>
  <dcterms:modified xsi:type="dcterms:W3CDTF">2014-08-02T15:56:00Z</dcterms:modified>
  <cp:revision>383</cp:revision>
  <dc:subject/>
  <dc:title>Low-carbon growth in Brazil?</dc:title>
</cp:coreProperties>
</file>